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E97-84A8-454C-AEF1-9766665F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CF6-07BF-4037-9EAB-DCFDE1D9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91A-49F1-488D-94E6-A58F8A7B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210-7015-44CA-8F3B-8EE7A69B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E25-25AC-4E9F-9FF7-463DF846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EB9-C350-4ECE-B505-A3182BBA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FD7-0EEC-4D0B-8CB8-4F1B68C8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B24-B160-4018-903E-C75DCA62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AA2-3921-4842-A9FA-32C974FE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13D-9C8B-4D5E-87B7-2D66E872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682-41DD-44CA-B617-CDAA82E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61F-B428-48C9-B8E8-ED93D5B1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02190F1C-8A87-4529-88A9-2D1CBB439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27636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  / 1 37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 / 1 / 2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/ 1 / 22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2478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827240" y="646560"/>
            <a:ext cx="1151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…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9520" y="10713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parat = 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249520" y="12999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psturi Copii = 6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49520" y="17571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dulti = 45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49520" y="213192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8610480"/>
            <a:ext cx="990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umitru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00"/>
                </a:solidFill>
                <a:latin typeface="Arial Narrow"/>
              </a:rPr>
              <a:t>48 / 1 /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8458200"/>
            <a:ext cx="0" cy="21337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5919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3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249520" y="15285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P =               41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013616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3886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Rm. Valce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Arial Narrow"/>
              </a:rPr>
              <a:t>(1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8534520"/>
            <a:ext cx="6858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5-22T11:10:51Z</cp:lastPrinted>
  <dcterms:modified xsi:type="dcterms:W3CDTF">2006-05-24T10:12:27Z</dcterms:modified>
  <cp:revision>94</cp:revision>
  <dc:subject/>
  <dc:title>No Slide Title</dc:title>
</cp:coreProperties>
</file>